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812A-47BF-4BB2-9330-F2307AA5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95D-1B8E-47A3-BFA8-6E5372E7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D1B-D7D4-40B6-8FB7-6949A959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7C64-9527-4E7D-A809-51F8D5E3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5A7-1BCB-4F7B-ACAB-4C827CD8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3B3-A745-4AB8-BDF9-13B878E3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87F8-EADD-4365-B887-C22078DA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0B4-5EE0-4944-9145-2E450409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C1D-E5CA-4FC1-8691-2527902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3C9C-3DBB-4A33-8D82-C10A9242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C88-923E-46D3-9961-D2E999C4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CAF-B310-4653-BB2E-9138C020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9AF3-4CC2-4F74-AE8F-0EC473230D3B}" type="slidenum">
              <a:rPr b="0" lang="en-GB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Protecting_the_planet_against_climate_change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89040" y="120636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076360" y="2020320"/>
            <a:ext cx="142920" cy="18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7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4371840" y="4869000"/>
            <a:ext cx="2360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Title 1" descr=""/>
          <p:cNvPicPr/>
          <p:nvPr/>
        </p:nvPicPr>
        <p:blipFill>
          <a:blip r:embed="rId1"/>
          <a:stretch/>
        </p:blipFill>
        <p:spPr>
          <a:xfrm>
            <a:off x="249120" y="49320"/>
            <a:ext cx="8645760" cy="1150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23640" y="836640"/>
            <a:ext cx="8569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mountai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developing houses that float on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exting warning of bad weather to fishermen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utting air-conditioning in bus stop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ainting roof gardens whit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ending money to help people after disaster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giving free bottles of water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planting more tree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ghting against dengu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improving the soil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(check your answers in the infographic on the next slide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31080" indent="-498960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47" name="Content Placeholder 3" descr=""/>
          <p:cNvPicPr/>
          <p:nvPr/>
        </p:nvPicPr>
        <p:blipFill>
          <a:blip r:embed="rId1"/>
          <a:stretch/>
        </p:blipFill>
        <p:spPr>
          <a:xfrm>
            <a:off x="-23760" y="77760"/>
            <a:ext cx="921528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2077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492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Protecting_the_planet_against_climate_chang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5148360" y="3836880"/>
            <a:ext cx="324000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6T19:41:30Z</dcterms:created>
  <dc:creator>Linda Ruas</dc:creator>
  <dc:description/>
  <dc:language>en-US</dc:language>
  <cp:lastModifiedBy>Linda Ruas</cp:lastModifiedBy>
  <dcterms:modified xsi:type="dcterms:W3CDTF">2014-05-26T20:08:22Z</dcterms:modified>
  <cp:revision>3</cp:revision>
  <dc:subject/>
  <dc:title>Quiz about climate change: what are countries doing to “climate-proof” the planet?</dc:title>
</cp:coreProperties>
</file>